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8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1.png" ContentType="image/png"/>
  <Override PartName="/ppt/media/image9.png" ContentType="image/png"/>
  <Override PartName="/ppt/media/image22.jpeg" ContentType="image/jpeg"/>
  <Override PartName="/ppt/media/type.wav" ContentType="audio/x-wav"/>
  <Override PartName="/ppt/media/projctor.wav" ContentType="audio/x-wav"/>
  <Override PartName="/ppt/media/image24.jpeg" ContentType="image/jpeg"/>
  <Override PartName="/ppt/media/image8.gif" ContentType="image/gif"/>
  <Override PartName="/ppt/media/image4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png" ContentType="image/png"/>
  <Override PartName="/ppt/media/applause.wav" ContentType="audio/x-wav"/>
  <Override PartName="/ppt/media/CLAP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30.gif" ContentType="image/gif"/>
  <Override PartName="/ppt/media/image28.png" ContentType="image/png"/>
  <Override PartName="/ppt/media/HORN8.WAV" ContentType="audio/x-wav"/>
  <Override PartName="/ppt/media/MTS_003.WAV" ContentType="audio/x-wav"/>
  <Override PartName="/ppt/media/camera.wav" ContentType="audio/x-wav"/>
  <Override PartName="/ppt/media/laser.wav" ContentType="audio/x-wav"/>
  <Override PartName="/ppt/media/TYPE.WAV" ContentType="audio/x-wav"/>
  <Override PartName="/ppt/media/BOB7T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36.png" ContentType="image/pn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0A4-251C-4F3C-BAF4-AA3CE408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C71-D913-4375-84B5-C3E9FB7E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DA9-943C-4A05-9A60-46365C6C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EAB-2D91-4129-B760-979FF4BC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53DE-D2D7-47A3-9FDC-9DEBB4F3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40D-56ED-4205-96B7-6FCEB19E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D570-EC2C-4393-9088-90C077C7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5C1E-53C3-4C69-93E0-47D376C0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E0DF-9C49-41EC-8A33-40A36346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C8F-8F22-4110-AF7C-ACC31CB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A1F0-DBB3-4AAB-B92B-5EE5A59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CF6-7866-4E12-8DA7-B2B388E0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1C8-2473-4BFA-981A-C4664161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3C60-5BC0-4E64-AAE4-9C24532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8255-FA36-488A-8928-34FEDEC5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E23F-AA61-429F-821C-D5579EC9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21F7-667E-4B09-9821-4DBE74EF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9EC5-3917-4C2C-B363-279ABDA5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6E42-4994-4206-9A82-BC834B95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62469-6EC3-4F65-9BF0-2385D60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F86D-288F-4223-B683-65960DF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2443-F5B3-412A-9DC9-20F1D2A9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9C4-ED90-4186-86EF-2C7279F4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6013-6F6E-4E66-A952-D7A3138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F66B-F402-49E4-9D41-59822D2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B94A-2485-48EB-874A-F0DC4B7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5873-2E07-49EF-9762-50A030E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6159-E9F1-4C78-82DD-4673FE69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76BC-EB7D-41F0-B9F4-0F3C9D52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18F1-DD0A-45EC-9978-2FD5BFBE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C48-C094-453C-A8A9-8BF518D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E06-55A4-4758-A915-384895A0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132-12D0-4901-91D4-8D12170A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329-EA9B-4D79-A9AB-C96C355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C58-9247-4EBD-B916-D7F6013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FDB-D7D8-49B4-9C4E-227DBA3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EBD-0B2A-4CD6-9301-D25ECDFDB2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EA6C-7B62-4978-87B7-5196A51F4B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1DB5-AADF-428D-A9C8-765A97287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MTS_003.WAV"/><Relationship Id="rId4" Type="http://schemas.openxmlformats.org/officeDocument/2006/relationships/audio" Target="../media/HORN8.WAV"/><Relationship Id="rId5" Type="http://schemas.openxmlformats.org/officeDocument/2006/relationships/audio" Target="../media/MTS_003.WAV"/><Relationship Id="rId6" Type="http://schemas.openxmlformats.org/officeDocument/2006/relationships/audio" Target="../media/chimes.wav"/><Relationship Id="rId7" Type="http://schemas.openxmlformats.org/officeDocument/2006/relationships/audio" Target="../media/BOB7T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BOB7T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ORN8.WAV"/><Relationship Id="rId3" Type="http://schemas.openxmlformats.org/officeDocument/2006/relationships/audio" Target="../media/BOB7T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BOB7T.WAV"/><Relationship Id="rId7" Type="http://schemas.openxmlformats.org/officeDocument/2006/relationships/audio" Target="../media/HORN8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MTS_003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670760" y="5335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settlement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1320" y="685800"/>
            <a:ext cx="78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e road from Alice Springs to Tennant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06800" y="62064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488360" cy="65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0480" y="234936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63720" y="306864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0200" y="4437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古利人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791320" y="457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OOR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ori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7432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first people of the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dysjmap3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685800"/>
            <a:ext cx="3624120" cy="2886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59280" y="68580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5837040" cy="2997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84328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5300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52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1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83988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Please translate the sentence in fou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们可能去露营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9280" y="236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is possible/likely/probable that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50532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are likely to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426708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be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ma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have possibly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ustralia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380880"/>
            <a:ext cx="68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81120" y="1905120"/>
          <a:ext cx="5505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1905120"/>
                    <a:ext cx="550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 re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838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idea of each para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8640" y="1609560"/>
            <a:ext cx="204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6765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arliest settlers--Koo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ways of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3124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pop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e of being citizen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Buterfl1" descr=""/>
          <p:cNvPicPr/>
          <p:nvPr/>
        </p:nvPicPr>
        <p:blipFill>
          <a:blip r:embed="rId2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69960" y="55080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80" y="1676520"/>
            <a:ext cx="834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960" y="1747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40" y="225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0040" y="318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00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71640" y="69228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 after the arrival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 they killed thousands and thousands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 with white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1816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780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671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085840" y="-8568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240" y="328680"/>
            <a:ext cx="20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5335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Europe           B Africa            C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“Aborigines” means______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 oldest races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a strong system of society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 first people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  This means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y strongly believed in their spiritual faith and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they didn’t develop a civilization of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y wanted to be the most important race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96200" y="5475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184320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5480" y="43434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119160"/>
            <a:ext cx="91440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growing different crops and vege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inventing and selling different kinds of fishing nets and hunt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fishing , hunting animals and gathering roots, nuts and fru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foreign settlers brought new disease which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foreign settlers seized their land and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 both A and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1062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7638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576360" y="162000"/>
            <a:ext cx="82436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6. The underlined word in the sentence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Whenever the kooris </a:t>
            </a:r>
            <a:r>
              <a:rPr b="1" lang="zh-CN" sz="3000" spc="-1" strike="noStrike" u="sng">
                <a:solidFill>
                  <a:srgbClr val="ffff00"/>
                </a:solidFill>
                <a:uFillTx/>
                <a:latin typeface="Times New Roman"/>
              </a:rPr>
              <a:t>defended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their rights, they were kille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means 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gave up   B. caught  C. looked for  D.fought f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.In the passage the writer wants to tell us mainly about____  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  how Australia was discov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   the first Australians ---Koo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   how foreign settlers treated Koori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D.  where Kooris came fr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31640" y="3024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Check the answers to Ex3 on Page 1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5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on’t go too far in the bush, otherwise you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1016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Don’t throw the cigarette end out of the window, otherwise you may start a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8440" y="30924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Before you return the car, make sure you clean/wash the dirt of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2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ow about having a camp/going camping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76892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Some people suggested going beyond the mountain to have a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080" y="5759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It is said that here is a valley of death. No one has dared to get into it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2360" y="62064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Please tap the cigarette ash into the ashtray. Don’t tap it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490680"/>
            <a:ext cx="8280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Which can be inferred from the passag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Australia and Asia used to be joined together by a long bridg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Kooris invented a strangely shaped tool that would bring back whatever it h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he first Australians might be from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Kooris children enjoy equal rights of education with white childr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608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6212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7621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1219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18160" y="161460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5560" y="20574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5800" y="247824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289548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19560" y="33433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4000" y="380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5440" y="419112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eases, 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4924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5181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457200"/>
            <a:ext cx="556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boriginal man of South Australia wears a cap of plaited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打成辫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traw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稻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carries a decorate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装饰了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oomera, a stick used to cradle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支撑，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 spear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give added leverage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杠杆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in throw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96048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815080" cy="4255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32000" y="4282920"/>
            <a:ext cx="66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aboriginal family is at home in South Australia; the woman is spinning 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w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673280" y="115920"/>
            <a:ext cx="55627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28720" y="4365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rigines work in a lumber 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木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forest on Melville Island off the coast near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734280" y="2286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5480" y="9907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9810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The old house has been handed down for 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" y="3276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In poor families,clothes may be handed down 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410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The story was handed down from mouth to mouth by the e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4920" y="46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故事是老一辈们口传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353400" y="1062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62120"/>
            <a:ext cx="4648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ch out one's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ut up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nd me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帮我一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every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各个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one hand,…one the other hand,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方面，…另一方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76920" y="1523880"/>
            <a:ext cx="441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y han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用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ff!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请勿动手！不许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s up!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举起手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sth. to sb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把某物递给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in (=turn i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上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u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分发，交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me-dow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6172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hand  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15228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elders = the old peo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838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(the oldest form of art )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y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covered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129528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o far discovered= that has been discover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7760" y="1828800"/>
            <a:ext cx="61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840" y="2209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9480" y="266688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40960" y="22096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25320" y="266688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3048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920" y="420516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She is an experienced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1080" y="35812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 be/become experienc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/i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5400" y="4876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They were quite experienced at teaching begin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548640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He is quite experienced in this kind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He is experienced at repairing c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38088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make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was making herself up when she heard a knock at the doo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Take sth as one’s ow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…占为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4100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He took this house as his own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ike took the pen as a pen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80880" y="609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be intended for---be provided for or designed for a particular purpose o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13372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is intended for 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shot was intended for the President killed one of his sold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105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The seats in the front are intended for the chairman and honourable g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5943600"/>
            <a:ext cx="3581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ok) curiously (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943600"/>
            <a:ext cx="33526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ound(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86600" y="5867280"/>
            <a:ext cx="20574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38160" y="3049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.rather than---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60480" y="1219320"/>
            <a:ext cx="905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,rather than I,should be punished.(instead of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ather than sleep all day,I prefer to go for an outing.(Instead of slee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He will wait for the lift rather than climb the stairs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宁可等电梯，也不爬楼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867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She's pretty rather than beautifu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漂亮但并不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3276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’d like to have a cold drink rather than coff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’ll go there by bus rather than by tax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3808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do…rather 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would rather do…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prefer to do…rather than do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宁可…… 不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29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宁可回家，也不愿意呆在这什么都不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3535200"/>
            <a:ext cx="883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go home rather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would rather go home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prefer to go home rather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330120"/>
            <a:ext cx="9132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.Kooris developed a way of life that was suitable for this hot and in many places dry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利人形成了适应这种炎热、干燥环境自己的生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22096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suitable for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合，适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fit 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适，适合，胜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itable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适合某种环境、情况或某种特殊需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t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来表示适合某种目的、用途或某人有能力胜任某工作或职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8080" y="53341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man is not fit for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se clothes are suitable for a week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1440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.Just over 200 years ago Kooris made up 100% of the population, but today they only make up a little over 1%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年前，古利人占澳大利亚人口总数的百分之百，但今天他们只占据澳大利亚人口的百分之一多一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04920" y="210960"/>
            <a:ext cx="883908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1) make u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组成，占据；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Hans make up 90% of the population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She was making herself up when she heard a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2) population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人口（不可数）；人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is the population of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bout two thirds of the population in China are pea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0"/>
            <a:ext cx="9144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iscus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have many of Koori languages disappeared or been l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819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were Kooris made citizens of Australia, 53.000 years after arriving the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dysjmap33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n15" descr="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2193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n did the earliest settlers come and where did they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did they hand down their customs, knowledge and memo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way of their lif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population in the past and what is the population now? 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about the education of Koori 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 to the Koori langu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dysjmap3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28600" y="533520"/>
            <a:ext cx="80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tell the text using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533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" y="2720880"/>
            <a:ext cx="32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9573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971800"/>
            <a:ext cx="2286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irth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895480"/>
            <a:ext cx="2895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us(st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72200" y="289548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5943600"/>
            <a:ext cx="3353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ying) out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594360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5943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gue about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918160" y="479736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92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16840" y="479736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w</cp:lastModifiedBy>
  <dcterms:modified xsi:type="dcterms:W3CDTF">2004-08-09T12:33:56Z</dcterms:modified>
  <cp:revision>104</cp:revision>
  <dc:subject/>
  <dc:title>PowerPoint 演示文稿</dc:title>
</cp:coreProperties>
</file>